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D8B7-E05B-4571-AB62-F8F22F007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6886-B1ED-4EDA-AF57-549D1F8E8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70CB-BA0A-4EEA-BE11-7D7C560C9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28AF-E2F6-4D3E-85D2-188A6856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AA4D-086C-4314-8DE8-CE6B5649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2AF9-4620-4E83-A147-9D7DFF1A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FCF-47E5-46C1-A7CF-68F14F08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B3F8-3606-43D7-A7F4-20ED4390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FF87-9335-42D2-903D-B8586CAD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5434-BA33-4D28-B38A-75CC8FCE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AF65-5ADD-457E-990F-DF4F02F0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85A5-C7B0-480C-8A27-03439DD1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00D1-0797-4B68-94E0-2C12177A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8043-9A05-4F0C-8DB7-83EDDC2C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669-2A7E-4F0C-80ED-4C3BFE82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84F6-6597-4E93-9B94-8B995457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4777-4682-4A35-B0CE-E9CB581B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2889-73D4-4C75-B859-5C0B4184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59A1-0434-4416-855A-4341892E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7262-12EE-41D6-8A67-A5A71419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FA81-4058-47A1-8ABE-6BDCE0BB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820B-BB04-4DEC-AF1C-CA92E21C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E27-997C-4F4A-AB8B-6824D602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7B2F-B237-43DD-A3A8-BC08458B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B5B1-2CEE-4F57-90A4-DAD2EB42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438F-D9BC-4735-BADB-96AD52B1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28E7-A0E5-4793-8430-A8FCD848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9D87-417B-4250-9465-8A2250240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7A40-7EDB-406E-A7C0-2F2B64169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image" Target="../media/image2.jpeg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D31C-4336-46E7-BD47-24C559750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sson 10-1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23880" y="2819520"/>
            <a:ext cx="64008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Construc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E8DD-455A-4EB3-8BE4-A54D331CF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ruction of a perpendicular from a point not on the lin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228600" y="1676520"/>
            <a:ext cx="42670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 li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mark a point Z not on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ce compass at Z and draw an arc that intersects li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wo different places. Label the pts. of intersection X &amp;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ce the compass at X with a setting greater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Y, draw an arc below the li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4343400" y="1752480"/>
            <a:ext cx="0" cy="441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800600" y="403848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4648320" y="4191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53080" y="2438280"/>
            <a:ext cx="152640" cy="15264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640080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rc 12"/>
          <p:cNvSpPr/>
          <p:nvPr/>
        </p:nvSpPr>
        <p:spPr>
          <a:xfrm rot="7887600">
            <a:off x="5384880" y="2519640"/>
            <a:ext cx="2390760" cy="2503800"/>
          </a:xfrm>
          <a:custGeom>
            <a:avLst/>
            <a:gdLst/>
            <a:ahLst/>
            <a:rect l="l" t="t" r="r" b="b"/>
            <a:pathLst>
              <a:path fill="none" w="40706" h="40945">
                <a:moveTo>
                  <a:pt x="0" y="11524"/>
                </a:moveTo>
                <a:cubicBezTo>
                  <a:pt x="3738" y="4436"/>
                  <a:pt x="11092" y="-1"/>
                  <a:pt x="19106" y="0"/>
                </a:cubicBezTo>
                <a:cubicBezTo>
                  <a:pt x="31035" y="0"/>
                  <a:pt x="40706" y="9670"/>
                  <a:pt x="40706" y="21600"/>
                </a:cubicBezTo>
                <a:cubicBezTo>
                  <a:pt x="40706" y="29802"/>
                  <a:pt x="36060" y="37296"/>
                  <a:pt x="28714" y="40945"/>
                </a:cubicBezTo>
              </a:path>
              <a:path stroke="0" w="40706" h="40945">
                <a:moveTo>
                  <a:pt x="0" y="11524"/>
                </a:moveTo>
                <a:cubicBezTo>
                  <a:pt x="3738" y="4436"/>
                  <a:pt x="11092" y="-1"/>
                  <a:pt x="19106" y="0"/>
                </a:cubicBezTo>
                <a:cubicBezTo>
                  <a:pt x="31035" y="0"/>
                  <a:pt x="40706" y="9670"/>
                  <a:pt x="40706" y="21600"/>
                </a:cubicBezTo>
                <a:cubicBezTo>
                  <a:pt x="40706" y="29802"/>
                  <a:pt x="36060" y="37296"/>
                  <a:pt x="28714" y="40945"/>
                </a:cubicBezTo>
                <a:lnTo>
                  <a:pt x="19106" y="21600"/>
                </a:lnTo>
                <a:lnTo>
                  <a:pt x="0" y="1152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48769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4"/>
          <p:cNvSpPr/>
          <p:nvPr/>
        </p:nvSpPr>
        <p:spPr>
          <a:xfrm>
            <a:off x="7924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5"/>
          <p:cNvSpPr/>
          <p:nvPr/>
        </p:nvSpPr>
        <p:spPr>
          <a:xfrm>
            <a:off x="5257800" y="396252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6"/>
          <p:cNvSpPr/>
          <p:nvPr/>
        </p:nvSpPr>
        <p:spPr>
          <a:xfrm>
            <a:off x="7772400" y="396252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7" descr="compass2"/>
          <p:cNvPicPr/>
          <p:nvPr/>
        </p:nvPicPr>
        <p:blipFill>
          <a:blip r:embed="rId1"/>
          <a:stretch/>
        </p:blipFill>
        <p:spPr>
          <a:xfrm rot="3429600">
            <a:off x="6888960" y="2254320"/>
            <a:ext cx="1752840" cy="1206360"/>
          </a:xfrm>
          <a:prstGeom prst="rect">
            <a:avLst/>
          </a:prstGeom>
          <a:ln w="0">
            <a:noFill/>
          </a:ln>
        </p:spPr>
      </p:pic>
      <p:sp>
        <p:nvSpPr>
          <p:cNvPr id="303" name="Arc 18"/>
          <p:cNvSpPr/>
          <p:nvPr/>
        </p:nvSpPr>
        <p:spPr>
          <a:xfrm rot="4871400">
            <a:off x="6172200" y="518112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9" descr="compass2"/>
          <p:cNvPicPr/>
          <p:nvPr/>
        </p:nvPicPr>
        <p:blipFill>
          <a:blip r:embed="rId2"/>
          <a:stretch/>
        </p:blipFill>
        <p:spPr>
          <a:xfrm rot="2916600">
            <a:off x="5528160" y="3691800"/>
            <a:ext cx="2178000" cy="13478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21"/>
          <p:cNvSpPr/>
          <p:nvPr/>
        </p:nvSpPr>
        <p:spPr>
          <a:xfrm>
            <a:off x="2133720" y="57913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Continued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2"/>
          <p:cNvSpPr/>
          <p:nvPr/>
        </p:nvSpPr>
        <p:spPr>
          <a:xfrm>
            <a:off x="820080" y="1197000"/>
            <a:ext cx="73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http://teachers.henrico.k12.va.us/math/igo/movs/PerpNotOnLine.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1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D099-47FC-4A24-B65D-BBEAD9F01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ruction of a perpendicular from a point not on the line -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tinuatio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310" name="Object 22"/>
          <p:cNvGraphicFramePr/>
          <p:nvPr/>
        </p:nvGraphicFramePr>
        <p:xfrm>
          <a:off x="1828800" y="5638680"/>
          <a:ext cx="24004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638680"/>
                    <a:ext cx="24004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Text Box 3"/>
          <p:cNvSpPr/>
          <p:nvPr/>
        </p:nvSpPr>
        <p:spPr>
          <a:xfrm>
            <a:off x="228600" y="1905120"/>
            <a:ext cx="426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Using same compass setting as in Step 3, place the compass at pt. Y and draw an arc intersecting the previously drawn. Label the pt. of intersection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a straightedge to draw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"/>
          <p:cNvSpPr/>
          <p:nvPr/>
        </p:nvSpPr>
        <p:spPr>
          <a:xfrm>
            <a:off x="4343400" y="1752480"/>
            <a:ext cx="0" cy="441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"/>
          <p:cNvSpPr/>
          <p:nvPr/>
        </p:nvSpPr>
        <p:spPr>
          <a:xfrm>
            <a:off x="4800600" y="403848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4648320" y="4191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7"/>
          <p:cNvSpPr/>
          <p:nvPr/>
        </p:nvSpPr>
        <p:spPr>
          <a:xfrm>
            <a:off x="6553080" y="2438280"/>
            <a:ext cx="152640" cy="15264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640080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rc 9"/>
          <p:cNvSpPr/>
          <p:nvPr/>
        </p:nvSpPr>
        <p:spPr>
          <a:xfrm rot="7887600">
            <a:off x="5384880" y="2519640"/>
            <a:ext cx="2390760" cy="2503800"/>
          </a:xfrm>
          <a:custGeom>
            <a:avLst/>
            <a:gdLst/>
            <a:ahLst/>
            <a:rect l="l" t="t" r="r" b="b"/>
            <a:pathLst>
              <a:path fill="none" w="40706" h="40945">
                <a:moveTo>
                  <a:pt x="0" y="11524"/>
                </a:moveTo>
                <a:cubicBezTo>
                  <a:pt x="3738" y="4436"/>
                  <a:pt x="11092" y="-1"/>
                  <a:pt x="19106" y="0"/>
                </a:cubicBezTo>
                <a:cubicBezTo>
                  <a:pt x="31035" y="0"/>
                  <a:pt x="40706" y="9670"/>
                  <a:pt x="40706" y="21600"/>
                </a:cubicBezTo>
                <a:cubicBezTo>
                  <a:pt x="40706" y="29802"/>
                  <a:pt x="36060" y="37296"/>
                  <a:pt x="28714" y="40945"/>
                </a:cubicBezTo>
              </a:path>
              <a:path stroke="0" w="40706" h="40945">
                <a:moveTo>
                  <a:pt x="0" y="11524"/>
                </a:moveTo>
                <a:cubicBezTo>
                  <a:pt x="3738" y="4436"/>
                  <a:pt x="11092" y="-1"/>
                  <a:pt x="19106" y="0"/>
                </a:cubicBezTo>
                <a:cubicBezTo>
                  <a:pt x="31035" y="0"/>
                  <a:pt x="40706" y="9670"/>
                  <a:pt x="40706" y="21600"/>
                </a:cubicBezTo>
                <a:cubicBezTo>
                  <a:pt x="40706" y="29802"/>
                  <a:pt x="36060" y="37296"/>
                  <a:pt x="28714" y="40945"/>
                </a:cubicBezTo>
                <a:lnTo>
                  <a:pt x="19106" y="21600"/>
                </a:lnTo>
                <a:lnTo>
                  <a:pt x="0" y="1152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48769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7924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2"/>
          <p:cNvSpPr/>
          <p:nvPr/>
        </p:nvSpPr>
        <p:spPr>
          <a:xfrm>
            <a:off x="5257800" y="396252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3"/>
          <p:cNvSpPr/>
          <p:nvPr/>
        </p:nvSpPr>
        <p:spPr>
          <a:xfrm>
            <a:off x="7772400" y="396252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rc 15"/>
          <p:cNvSpPr/>
          <p:nvPr/>
        </p:nvSpPr>
        <p:spPr>
          <a:xfrm rot="4871400">
            <a:off x="6172200" y="518112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rc 18"/>
          <p:cNvSpPr/>
          <p:nvPr/>
        </p:nvSpPr>
        <p:spPr>
          <a:xfrm rot="10149000">
            <a:off x="6248160" y="525744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9"/>
          <p:cNvSpPr/>
          <p:nvPr/>
        </p:nvSpPr>
        <p:spPr>
          <a:xfrm>
            <a:off x="6629400" y="18288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20"/>
          <p:cNvSpPr/>
          <p:nvPr/>
        </p:nvSpPr>
        <p:spPr>
          <a:xfrm>
            <a:off x="6553080" y="5943600"/>
            <a:ext cx="15264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6019920" y="5715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Object 24"/>
          <p:cNvGraphicFramePr/>
          <p:nvPr/>
        </p:nvGraphicFramePr>
        <p:xfrm>
          <a:off x="1143000" y="5181480"/>
          <a:ext cx="45720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5181480"/>
                    <a:ext cx="4572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0" name="Picture 26" descr="compass2b"/>
          <p:cNvPicPr/>
          <p:nvPr/>
        </p:nvPicPr>
        <p:blipFill>
          <a:blip r:embed="rId5"/>
          <a:stretch/>
        </p:blipFill>
        <p:spPr>
          <a:xfrm rot="12814200">
            <a:off x="6170760" y="3639600"/>
            <a:ext cx="11095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206E-0A6F-485D-A733-0FE207B0E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truction of  Congruent Segment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28600" y="1676520"/>
            <a:ext cx="48769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segment X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where on the paper, draw a line and a point on the line. Label the point 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the compass at point X and adjust the compass setting so that the pencil is at point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at setting, place the compass at point P and draw an arc that intersects the line. Label the point of intersection Q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4952880" y="1752480"/>
            <a:ext cx="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5486400" y="563868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5867280" y="5562720"/>
            <a:ext cx="15264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57913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4"/>
          <p:cNvSpPr/>
          <p:nvPr/>
        </p:nvSpPr>
        <p:spPr>
          <a:xfrm>
            <a:off x="7086600" y="556272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rc 26"/>
          <p:cNvSpPr/>
          <p:nvPr/>
        </p:nvSpPr>
        <p:spPr>
          <a:xfrm rot="2379000">
            <a:off x="5852880" y="4856040"/>
            <a:ext cx="1546200" cy="1163880"/>
          </a:xfrm>
          <a:custGeom>
            <a:avLst/>
            <a:gdLst/>
            <a:ahLst/>
            <a:rect l="l" t="t" r="r" b="b"/>
            <a:pathLst>
              <a:path fill="none" w="33489" h="27478">
                <a:moveTo>
                  <a:pt x="0" y="3566"/>
                </a:moveTo>
                <a:cubicBezTo>
                  <a:pt x="3528" y="1239"/>
                  <a:pt x="7662" y="-1"/>
                  <a:pt x="11889" y="0"/>
                </a:cubicBezTo>
                <a:cubicBezTo>
                  <a:pt x="23818" y="0"/>
                  <a:pt x="33489" y="9670"/>
                  <a:pt x="33489" y="21600"/>
                </a:cubicBezTo>
                <a:cubicBezTo>
                  <a:pt x="33489" y="23587"/>
                  <a:pt x="33214" y="25565"/>
                  <a:pt x="32673" y="27477"/>
                </a:cubicBezTo>
              </a:path>
              <a:path stroke="0" w="33489" h="27478">
                <a:moveTo>
                  <a:pt x="0" y="3566"/>
                </a:moveTo>
                <a:cubicBezTo>
                  <a:pt x="3528" y="1239"/>
                  <a:pt x="7662" y="-1"/>
                  <a:pt x="11889" y="0"/>
                </a:cubicBezTo>
                <a:cubicBezTo>
                  <a:pt x="23818" y="0"/>
                  <a:pt x="33489" y="9670"/>
                  <a:pt x="33489" y="21600"/>
                </a:cubicBezTo>
                <a:cubicBezTo>
                  <a:pt x="33489" y="23587"/>
                  <a:pt x="33214" y="25565"/>
                  <a:pt x="32673" y="27477"/>
                </a:cubicBezTo>
                <a:lnTo>
                  <a:pt x="11889" y="21600"/>
                </a:lnTo>
                <a:lnTo>
                  <a:pt x="0" y="35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9"/>
          <p:cNvSpPr/>
          <p:nvPr/>
        </p:nvSpPr>
        <p:spPr>
          <a:xfrm>
            <a:off x="73915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3" descr="compass2"/>
          <p:cNvPicPr/>
          <p:nvPr/>
        </p:nvPicPr>
        <p:blipFill>
          <a:blip r:embed="rId1"/>
          <a:stretch/>
        </p:blipFill>
        <p:spPr>
          <a:xfrm>
            <a:off x="6934320" y="1828800"/>
            <a:ext cx="1301760" cy="1787400"/>
          </a:xfrm>
          <a:prstGeom prst="rect">
            <a:avLst/>
          </a:prstGeom>
          <a:ln w="0">
            <a:noFill/>
          </a:ln>
        </p:spPr>
      </p:pic>
      <p:sp>
        <p:nvSpPr>
          <p:cNvPr id="113" name="Line 34"/>
          <p:cNvSpPr/>
          <p:nvPr/>
        </p:nvSpPr>
        <p:spPr>
          <a:xfrm>
            <a:off x="701028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5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6"/>
          <p:cNvSpPr/>
          <p:nvPr/>
        </p:nvSpPr>
        <p:spPr>
          <a:xfrm>
            <a:off x="8153280" y="3505320"/>
            <a:ext cx="15264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64771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83059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9" descr="compass2"/>
          <p:cNvPicPr/>
          <p:nvPr/>
        </p:nvPicPr>
        <p:blipFill>
          <a:blip r:embed="rId2"/>
          <a:stretch/>
        </p:blipFill>
        <p:spPr>
          <a:xfrm>
            <a:off x="5867280" y="3809880"/>
            <a:ext cx="1301760" cy="178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Object 40"/>
          <p:cNvGraphicFramePr/>
          <p:nvPr/>
        </p:nvGraphicFramePr>
        <p:xfrm>
          <a:off x="5029200" y="1905120"/>
          <a:ext cx="1847880" cy="71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905120"/>
                    <a:ext cx="184788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42"/>
          <p:cNvSpPr/>
          <p:nvPr/>
        </p:nvSpPr>
        <p:spPr>
          <a:xfrm>
            <a:off x="380880" y="11430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http://teachers.henrico.k12.va.us/math/igo/movs/CongruentSegments.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BAA8-CF22-4662-9CE0-1590B2092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struction of  Congruent Angle.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04920" y="1752480"/>
            <a:ext cx="47242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n angle li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straightedge to draw a ray and label the endpoint as 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the compass at Point P and draw a large arc that intersects both sides of &lt;P. Label the points of intersection as Q and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 flipV="1">
            <a:off x="6095880" y="3123720"/>
            <a:ext cx="2210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6095880" y="4267080"/>
            <a:ext cx="26672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5562720" y="4114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5029200" y="1676520"/>
            <a:ext cx="0" cy="4495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6019920" y="56386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5943600" y="556272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563868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rc 15"/>
          <p:cNvSpPr/>
          <p:nvPr/>
        </p:nvSpPr>
        <p:spPr>
          <a:xfrm rot="2185200">
            <a:off x="6476760" y="3200040"/>
            <a:ext cx="1604880" cy="1454040"/>
          </a:xfrm>
          <a:custGeom>
            <a:avLst/>
            <a:gdLst/>
            <a:ahLst/>
            <a:rect l="l" t="t" r="r" b="b"/>
            <a:pathLst>
              <a:path fill="none" w="32486" h="31694">
                <a:moveTo>
                  <a:pt x="-1" y="2943"/>
                </a:moveTo>
                <a:cubicBezTo>
                  <a:pt x="3303" y="1015"/>
                  <a:pt x="7060" y="-1"/>
                  <a:pt x="10886" y="0"/>
                </a:cubicBezTo>
                <a:cubicBezTo>
                  <a:pt x="22815" y="0"/>
                  <a:pt x="32486" y="9670"/>
                  <a:pt x="32486" y="21600"/>
                </a:cubicBezTo>
                <a:cubicBezTo>
                  <a:pt x="32486" y="25118"/>
                  <a:pt x="31626" y="28583"/>
                  <a:pt x="29982" y="31694"/>
                </a:cubicBezTo>
              </a:path>
              <a:path stroke="0" w="32486" h="31694">
                <a:moveTo>
                  <a:pt x="-1" y="2943"/>
                </a:moveTo>
                <a:cubicBezTo>
                  <a:pt x="3303" y="1015"/>
                  <a:pt x="7060" y="-1"/>
                  <a:pt x="10886" y="0"/>
                </a:cubicBezTo>
                <a:cubicBezTo>
                  <a:pt x="22815" y="0"/>
                  <a:pt x="32486" y="9670"/>
                  <a:pt x="32486" y="21600"/>
                </a:cubicBezTo>
                <a:cubicBezTo>
                  <a:pt x="32486" y="25118"/>
                  <a:pt x="31626" y="28583"/>
                  <a:pt x="29982" y="31694"/>
                </a:cubicBezTo>
                <a:lnTo>
                  <a:pt x="10886" y="21600"/>
                </a:lnTo>
                <a:lnTo>
                  <a:pt x="-1" y="2943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76201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2438280" y="5334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Continued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3"/>
          <p:cNvSpPr/>
          <p:nvPr/>
        </p:nvSpPr>
        <p:spPr>
          <a:xfrm>
            <a:off x="6019920" y="419112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5" descr="compass2"/>
          <p:cNvPicPr/>
          <p:nvPr/>
        </p:nvPicPr>
        <p:blipFill>
          <a:blip r:embed="rId1"/>
          <a:stretch/>
        </p:blipFill>
        <p:spPr>
          <a:xfrm rot="19866000">
            <a:off x="5405040" y="2061720"/>
            <a:ext cx="1809720" cy="1828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6"/>
          <p:cNvSpPr/>
          <p:nvPr/>
        </p:nvSpPr>
        <p:spPr>
          <a:xfrm>
            <a:off x="380880" y="11430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http://teachers.henrico.k12.va.us/math/igo/movs/CongruentAngle.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18A0-D440-43E3-9097-45F44A947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ruction of  Congruent Angle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tinuation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4648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same compass setting, put the compass at point T and draw a large arc that starts above the ray and intersects the ray. Label the point of intersection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the compass on R and adjust pencil to 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same compass setting, place compass at S and draw an arc to intersect the larger arc from step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traightedge to dra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1"/>
          <p:cNvGraphicFramePr/>
          <p:nvPr/>
        </p:nvGraphicFramePr>
        <p:xfrm>
          <a:off x="4038480" y="5562720"/>
          <a:ext cx="53352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5562720"/>
                    <a:ext cx="53352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Line 5"/>
          <p:cNvSpPr/>
          <p:nvPr/>
        </p:nvSpPr>
        <p:spPr>
          <a:xfrm>
            <a:off x="5029200" y="1828800"/>
            <a:ext cx="0" cy="441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5486400" y="3352680"/>
            <a:ext cx="266688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 flipV="1">
            <a:off x="5486400" y="2133720"/>
            <a:ext cx="220968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rc 9"/>
          <p:cNvSpPr/>
          <p:nvPr/>
        </p:nvSpPr>
        <p:spPr>
          <a:xfrm rot="2185200">
            <a:off x="5790960" y="2285640"/>
            <a:ext cx="1604880" cy="1454040"/>
          </a:xfrm>
          <a:custGeom>
            <a:avLst/>
            <a:gdLst/>
            <a:ahLst/>
            <a:rect l="l" t="t" r="r" b="b"/>
            <a:pathLst>
              <a:path fill="none" w="32486" h="31694">
                <a:moveTo>
                  <a:pt x="-1" y="2943"/>
                </a:moveTo>
                <a:cubicBezTo>
                  <a:pt x="3303" y="1015"/>
                  <a:pt x="7060" y="-1"/>
                  <a:pt x="10886" y="0"/>
                </a:cubicBezTo>
                <a:cubicBezTo>
                  <a:pt x="22815" y="0"/>
                  <a:pt x="32486" y="9670"/>
                  <a:pt x="32486" y="21600"/>
                </a:cubicBezTo>
                <a:cubicBezTo>
                  <a:pt x="32486" y="25118"/>
                  <a:pt x="31626" y="28583"/>
                  <a:pt x="29982" y="31694"/>
                </a:cubicBezTo>
              </a:path>
              <a:path stroke="0" w="32486" h="31694">
                <a:moveTo>
                  <a:pt x="-1" y="2943"/>
                </a:moveTo>
                <a:cubicBezTo>
                  <a:pt x="3303" y="1015"/>
                  <a:pt x="7060" y="-1"/>
                  <a:pt x="10886" y="0"/>
                </a:cubicBezTo>
                <a:cubicBezTo>
                  <a:pt x="22815" y="0"/>
                  <a:pt x="32486" y="9670"/>
                  <a:pt x="32486" y="21600"/>
                </a:cubicBezTo>
                <a:cubicBezTo>
                  <a:pt x="32486" y="25118"/>
                  <a:pt x="31626" y="28583"/>
                  <a:pt x="29982" y="31694"/>
                </a:cubicBezTo>
                <a:lnTo>
                  <a:pt x="10886" y="21600"/>
                </a:lnTo>
                <a:lnTo>
                  <a:pt x="-1" y="294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105520" y="30481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647712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71629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6019920" y="54100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5943600" y="533412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5486400" y="5334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6"/>
          <p:cNvSpPr/>
          <p:nvPr/>
        </p:nvSpPr>
        <p:spPr>
          <a:xfrm rot="2185200">
            <a:off x="6324120" y="4343400"/>
            <a:ext cx="1605240" cy="1454040"/>
          </a:xfrm>
          <a:custGeom>
            <a:avLst/>
            <a:gdLst/>
            <a:ahLst/>
            <a:rect l="l" t="t" r="r" b="b"/>
            <a:pathLst>
              <a:path fill="none" w="32486" h="31694">
                <a:moveTo>
                  <a:pt x="-1" y="2943"/>
                </a:moveTo>
                <a:cubicBezTo>
                  <a:pt x="3303" y="1015"/>
                  <a:pt x="7060" y="-1"/>
                  <a:pt x="10886" y="0"/>
                </a:cubicBezTo>
                <a:cubicBezTo>
                  <a:pt x="22815" y="0"/>
                  <a:pt x="32486" y="9670"/>
                  <a:pt x="32486" y="21600"/>
                </a:cubicBezTo>
                <a:cubicBezTo>
                  <a:pt x="32486" y="25118"/>
                  <a:pt x="31626" y="28583"/>
                  <a:pt x="29982" y="31694"/>
                </a:cubicBezTo>
              </a:path>
              <a:path stroke="0" w="32486" h="31694">
                <a:moveTo>
                  <a:pt x="-1" y="2943"/>
                </a:moveTo>
                <a:cubicBezTo>
                  <a:pt x="3303" y="1015"/>
                  <a:pt x="7060" y="-1"/>
                  <a:pt x="10886" y="0"/>
                </a:cubicBezTo>
                <a:cubicBezTo>
                  <a:pt x="22815" y="0"/>
                  <a:pt x="32486" y="9670"/>
                  <a:pt x="32486" y="21600"/>
                </a:cubicBezTo>
                <a:cubicBezTo>
                  <a:pt x="32486" y="25118"/>
                  <a:pt x="31626" y="28583"/>
                  <a:pt x="29982" y="31694"/>
                </a:cubicBezTo>
                <a:lnTo>
                  <a:pt x="10886" y="21600"/>
                </a:lnTo>
                <a:lnTo>
                  <a:pt x="-1" y="2943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7772400" y="5486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24"/>
          <p:cNvSpPr/>
          <p:nvPr/>
        </p:nvSpPr>
        <p:spPr>
          <a:xfrm rot="15829800">
            <a:off x="7315200" y="419076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5"/>
          <p:cNvSpPr/>
          <p:nvPr/>
        </p:nvSpPr>
        <p:spPr>
          <a:xfrm flipV="1">
            <a:off x="6019920" y="3962160"/>
            <a:ext cx="243828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73152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7467480" y="4419720"/>
            <a:ext cx="15264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0" descr="compass2"/>
          <p:cNvPicPr/>
          <p:nvPr/>
        </p:nvPicPr>
        <p:blipFill>
          <a:blip r:embed="rId3"/>
          <a:stretch/>
        </p:blipFill>
        <p:spPr>
          <a:xfrm rot="19866000">
            <a:off x="5562360" y="3962520"/>
            <a:ext cx="1676160" cy="108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Object 33"/>
          <p:cNvGraphicFramePr/>
          <p:nvPr/>
        </p:nvGraphicFramePr>
        <p:xfrm>
          <a:off x="5943600" y="1143000"/>
          <a:ext cx="2914560" cy="53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4" name="Object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43600" y="1143000"/>
                    <a:ext cx="291456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Picture 36" descr="compass2b"/>
          <p:cNvPicPr/>
          <p:nvPr/>
        </p:nvPicPr>
        <p:blipFill>
          <a:blip r:embed="rId6"/>
          <a:stretch/>
        </p:blipFill>
        <p:spPr>
          <a:xfrm rot="20708400">
            <a:off x="7772400" y="4343400"/>
            <a:ext cx="1109520" cy="914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7" descr="compass2b"/>
          <p:cNvPicPr/>
          <p:nvPr/>
        </p:nvPicPr>
        <p:blipFill>
          <a:blip r:embed="rId7"/>
          <a:stretch/>
        </p:blipFill>
        <p:spPr>
          <a:xfrm rot="20708400">
            <a:off x="7272360" y="2362320"/>
            <a:ext cx="1109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7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8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4D0D-F096-4303-87DC-DD4026CBD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struction of Segment Bisector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70" name="Object 26"/>
          <p:cNvGraphicFramePr/>
          <p:nvPr/>
        </p:nvGraphicFramePr>
        <p:xfrm>
          <a:off x="3657600" y="3200400"/>
          <a:ext cx="53352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200400"/>
                    <a:ext cx="5335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28"/>
          <p:cNvGraphicFramePr/>
          <p:nvPr/>
        </p:nvGraphicFramePr>
        <p:xfrm>
          <a:off x="3733920" y="1676520"/>
          <a:ext cx="488880" cy="39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676520"/>
                    <a:ext cx="48888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30"/>
          <p:cNvGraphicFramePr/>
          <p:nvPr/>
        </p:nvGraphicFramePr>
        <p:xfrm>
          <a:off x="3276720" y="5562720"/>
          <a:ext cx="533160" cy="50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5562720"/>
                    <a:ext cx="53316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6"/>
          <p:cNvSpPr/>
          <p:nvPr/>
        </p:nvSpPr>
        <p:spPr>
          <a:xfrm>
            <a:off x="228600" y="1676520"/>
            <a:ext cx="464832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 a segment and name i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the compass at point X. Adjust the compass so that its width is greater that ½X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 arcs above and below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ame compass setting, place the compass at point Y and draw arcs above and below XY so that they intersect the two arcs previously drawn. Label the points of intersection of the arcs as P and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traightedge to draw       . Label the point where it intersects XY as 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4876920" y="1752480"/>
            <a:ext cx="0" cy="4496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5486400" y="396252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5410080" y="3886200"/>
            <a:ext cx="15264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0"/>
          <p:cNvSpPr/>
          <p:nvPr/>
        </p:nvSpPr>
        <p:spPr>
          <a:xfrm>
            <a:off x="8534520" y="388620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578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84582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rc 13"/>
          <p:cNvSpPr/>
          <p:nvPr/>
        </p:nvSpPr>
        <p:spPr>
          <a:xfrm>
            <a:off x="6477120" y="205740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rc 14"/>
          <p:cNvSpPr/>
          <p:nvPr/>
        </p:nvSpPr>
        <p:spPr>
          <a:xfrm rot="5089800">
            <a:off x="6552720" y="464832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rc 15"/>
          <p:cNvSpPr/>
          <p:nvPr/>
        </p:nvSpPr>
        <p:spPr>
          <a:xfrm rot="15733800">
            <a:off x="6857640" y="198072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rc 16"/>
          <p:cNvSpPr/>
          <p:nvPr/>
        </p:nvSpPr>
        <p:spPr>
          <a:xfrm rot="10800000">
            <a:off x="6705720" y="464832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7"/>
          <p:cNvSpPr/>
          <p:nvPr/>
        </p:nvSpPr>
        <p:spPr>
          <a:xfrm>
            <a:off x="7086600" y="2286000"/>
            <a:ext cx="0" cy="3124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8"/>
          <p:cNvSpPr/>
          <p:nvPr/>
        </p:nvSpPr>
        <p:spPr>
          <a:xfrm>
            <a:off x="7010280" y="2209680"/>
            <a:ext cx="152640" cy="15264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9"/>
          <p:cNvSpPr/>
          <p:nvPr/>
        </p:nvSpPr>
        <p:spPr>
          <a:xfrm>
            <a:off x="7010280" y="5257800"/>
            <a:ext cx="15264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0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693432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693432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7162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4" descr="compass2"/>
          <p:cNvPicPr/>
          <p:nvPr/>
        </p:nvPicPr>
        <p:blipFill>
          <a:blip r:embed="rId7"/>
          <a:stretch/>
        </p:blipFill>
        <p:spPr>
          <a:xfrm rot="18217200">
            <a:off x="4385520" y="2067120"/>
            <a:ext cx="2151000" cy="11401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2"/>
          <p:cNvSpPr/>
          <p:nvPr/>
        </p:nvSpPr>
        <p:spPr>
          <a:xfrm>
            <a:off x="5105520" y="57913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 is the midpoint of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33"/>
          <p:cNvGraphicFramePr/>
          <p:nvPr/>
        </p:nvGraphicFramePr>
        <p:xfrm>
          <a:off x="7924680" y="5791320"/>
          <a:ext cx="53352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7" name="Object 3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924680" y="5791320"/>
                    <a:ext cx="5335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35"/>
          <p:cNvSpPr/>
          <p:nvPr/>
        </p:nvSpPr>
        <p:spPr>
          <a:xfrm>
            <a:off x="380880" y="11430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http://teachers.henrico.k12.va.us/math/igo/movs/SegmentBisector.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6" descr="compass2b"/>
          <p:cNvPicPr/>
          <p:nvPr/>
        </p:nvPicPr>
        <p:blipFill>
          <a:blip r:embed="rId10"/>
          <a:stretch/>
        </p:blipFill>
        <p:spPr>
          <a:xfrm rot="19681800">
            <a:off x="7775280" y="1765440"/>
            <a:ext cx="782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BBD3-875B-461C-B4FF-7E48C1B99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struction of Angle Bisector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04920" y="1981080"/>
            <a:ext cx="40384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n angle &lt;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compass at A and draw a large arc that intersects both sides of &lt;A. Label the points of intersection B and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compass at B, draw an arc in the interior of the 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1"/>
          <p:cNvSpPr/>
          <p:nvPr/>
        </p:nvSpPr>
        <p:spPr>
          <a:xfrm>
            <a:off x="4343400" y="1752480"/>
            <a:ext cx="0" cy="4496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2"/>
          <p:cNvSpPr/>
          <p:nvPr/>
        </p:nvSpPr>
        <p:spPr>
          <a:xfrm>
            <a:off x="5562720" y="449568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3"/>
          <p:cNvSpPr/>
          <p:nvPr/>
        </p:nvSpPr>
        <p:spPr>
          <a:xfrm flipV="1">
            <a:off x="5562720" y="2514240"/>
            <a:ext cx="236196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4"/>
          <p:cNvSpPr/>
          <p:nvPr/>
        </p:nvSpPr>
        <p:spPr>
          <a:xfrm>
            <a:off x="5486400" y="441972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4952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rc 16"/>
          <p:cNvSpPr/>
          <p:nvPr/>
        </p:nvSpPr>
        <p:spPr>
          <a:xfrm>
            <a:off x="6553080" y="3048120"/>
            <a:ext cx="914400" cy="1820880"/>
          </a:xfrm>
          <a:custGeom>
            <a:avLst/>
            <a:gdLst/>
            <a:ahLst/>
            <a:rect l="l" t="t" r="r" b="b"/>
            <a:pathLst>
              <a:path fill="none" w="21600" h="4301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436"/>
                  <a:pt x="13570" y="41595"/>
                  <a:pt x="2827" y="43014"/>
                </a:cubicBezTo>
              </a:path>
              <a:path stroke="0" w="21600" h="4301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436"/>
                  <a:pt x="13570" y="41595"/>
                  <a:pt x="2827" y="4301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7"/>
          <p:cNvSpPr/>
          <p:nvPr/>
        </p:nvSpPr>
        <p:spPr>
          <a:xfrm>
            <a:off x="7010280" y="3124080"/>
            <a:ext cx="152640" cy="15264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8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685800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72388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1" descr="compass2"/>
          <p:cNvPicPr/>
          <p:nvPr/>
        </p:nvPicPr>
        <p:blipFill>
          <a:blip r:embed="rId1"/>
          <a:stretch/>
        </p:blipFill>
        <p:spPr>
          <a:xfrm rot="19226400">
            <a:off x="4630320" y="2346120"/>
            <a:ext cx="1873440" cy="1672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2" descr="compass2"/>
          <p:cNvPicPr/>
          <p:nvPr/>
        </p:nvPicPr>
        <p:blipFill>
          <a:blip r:embed="rId2"/>
          <a:stretch/>
        </p:blipFill>
        <p:spPr>
          <a:xfrm rot="1523400">
            <a:off x="7467480" y="1752480"/>
            <a:ext cx="1143000" cy="1673280"/>
          </a:xfrm>
          <a:prstGeom prst="rect">
            <a:avLst/>
          </a:prstGeom>
          <a:ln w="0">
            <a:noFill/>
          </a:ln>
        </p:spPr>
      </p:pic>
      <p:sp>
        <p:nvSpPr>
          <p:cNvPr id="216" name="Arc 23"/>
          <p:cNvSpPr/>
          <p:nvPr/>
        </p:nvSpPr>
        <p:spPr>
          <a:xfrm rot="3289800">
            <a:off x="7696080" y="304776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820800" y="1197000"/>
            <a:ext cx="71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http://teachers.henrico.k12.va.us/math/igo/movs/AngleBisector.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5"/>
          <p:cNvSpPr/>
          <p:nvPr/>
        </p:nvSpPr>
        <p:spPr>
          <a:xfrm>
            <a:off x="4876920" y="54100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Continued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30BD-9B77-47C0-9FC0-FDCA4808E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4343400" y="1752480"/>
            <a:ext cx="0" cy="4496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5562720" y="449568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 flipV="1">
            <a:off x="5562720" y="2514240"/>
            <a:ext cx="236196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5486400" y="441972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4952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rc 9"/>
          <p:cNvSpPr/>
          <p:nvPr/>
        </p:nvSpPr>
        <p:spPr>
          <a:xfrm>
            <a:off x="6553080" y="3048120"/>
            <a:ext cx="914400" cy="1820880"/>
          </a:xfrm>
          <a:custGeom>
            <a:avLst/>
            <a:gdLst/>
            <a:ahLst/>
            <a:rect l="l" t="t" r="r" b="b"/>
            <a:pathLst>
              <a:path fill="none" w="21600" h="4301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436"/>
                  <a:pt x="13570" y="41595"/>
                  <a:pt x="2827" y="43014"/>
                </a:cubicBezTo>
              </a:path>
              <a:path stroke="0" w="21600" h="4301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436"/>
                  <a:pt x="13570" y="41595"/>
                  <a:pt x="2827" y="4301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7010280" y="3124080"/>
            <a:ext cx="152640" cy="15264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1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685800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72388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5" descr="compass2"/>
          <p:cNvPicPr/>
          <p:nvPr/>
        </p:nvPicPr>
        <p:blipFill>
          <a:blip r:embed="rId1"/>
          <a:stretch/>
        </p:blipFill>
        <p:spPr>
          <a:xfrm rot="19774200">
            <a:off x="6705720" y="2437920"/>
            <a:ext cx="1143000" cy="1673280"/>
          </a:xfrm>
          <a:prstGeom prst="rect">
            <a:avLst/>
          </a:prstGeom>
          <a:ln w="0">
            <a:noFill/>
          </a:ln>
        </p:spPr>
      </p:pic>
      <p:sp>
        <p:nvSpPr>
          <p:cNvPr id="232" name="Arc 16"/>
          <p:cNvSpPr/>
          <p:nvPr/>
        </p:nvSpPr>
        <p:spPr>
          <a:xfrm rot="3289800">
            <a:off x="7696080" y="304776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304920" y="1981080"/>
            <a:ext cx="39621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ing the same compass setting, place the compass at C and draw an arc that intersects the arc drawn in Step 3. Label the point of intersection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 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Construction of Angle Bisector – 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continua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35" name="Object 24"/>
          <p:cNvGraphicFramePr/>
          <p:nvPr/>
        </p:nvGraphicFramePr>
        <p:xfrm>
          <a:off x="1600200" y="5181480"/>
          <a:ext cx="609480" cy="46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5181480"/>
                    <a:ext cx="6094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Arc 20"/>
          <p:cNvSpPr/>
          <p:nvPr/>
        </p:nvSpPr>
        <p:spPr>
          <a:xfrm rot="19034400">
            <a:off x="7848360" y="312408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1"/>
          <p:cNvSpPr/>
          <p:nvPr/>
        </p:nvSpPr>
        <p:spPr>
          <a:xfrm>
            <a:off x="8381880" y="3276720"/>
            <a:ext cx="15264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84582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3"/>
          <p:cNvSpPr/>
          <p:nvPr/>
        </p:nvSpPr>
        <p:spPr>
          <a:xfrm flipV="1">
            <a:off x="5562720" y="3200400"/>
            <a:ext cx="32763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Object 26"/>
          <p:cNvGraphicFramePr/>
          <p:nvPr/>
        </p:nvGraphicFramePr>
        <p:xfrm>
          <a:off x="4724280" y="5181480"/>
          <a:ext cx="3772080" cy="64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2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5181480"/>
                    <a:ext cx="37720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F526-653B-445B-8ADE-F03048223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01064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 of  a perpendicular fro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point on the line.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28600" y="1676520"/>
            <a:ext cx="38098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 li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mark a point C on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ce compass at C and draw arcs to the right &amp; left of C, intersecting the li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Label the pts. of intersection A &amp;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ce the compass at A with a setting greater than AC, draw an arc above the li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4572000" y="1828800"/>
            <a:ext cx="0" cy="441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4876920" y="419112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9"/>
          <p:cNvSpPr/>
          <p:nvPr/>
        </p:nvSpPr>
        <p:spPr>
          <a:xfrm>
            <a:off x="5334120" y="411480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0"/>
          <p:cNvSpPr/>
          <p:nvPr/>
        </p:nvSpPr>
        <p:spPr>
          <a:xfrm>
            <a:off x="8077320" y="411480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48769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8381880" y="4343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3"/>
          <p:cNvSpPr/>
          <p:nvPr/>
        </p:nvSpPr>
        <p:spPr>
          <a:xfrm>
            <a:off x="6629400" y="411480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64771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4648320" y="4191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rc 16"/>
          <p:cNvSpPr/>
          <p:nvPr/>
        </p:nvSpPr>
        <p:spPr>
          <a:xfrm rot="2080800">
            <a:off x="7467120" y="380952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rc 17"/>
          <p:cNvSpPr/>
          <p:nvPr/>
        </p:nvSpPr>
        <p:spPr>
          <a:xfrm rot="13727400">
            <a:off x="5181120" y="373356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8" descr="compass2"/>
          <p:cNvPicPr/>
          <p:nvPr/>
        </p:nvPicPr>
        <p:blipFill>
          <a:blip r:embed="rId1"/>
          <a:stretch/>
        </p:blipFill>
        <p:spPr>
          <a:xfrm rot="20350200">
            <a:off x="6324120" y="2209320"/>
            <a:ext cx="1143000" cy="1673280"/>
          </a:xfrm>
          <a:prstGeom prst="rect">
            <a:avLst/>
          </a:prstGeom>
          <a:ln w="0">
            <a:noFill/>
          </a:ln>
        </p:spPr>
      </p:pic>
      <p:sp>
        <p:nvSpPr>
          <p:cNvPr id="259" name="Arc 19"/>
          <p:cNvSpPr/>
          <p:nvPr/>
        </p:nvSpPr>
        <p:spPr>
          <a:xfrm>
            <a:off x="5867280" y="167652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" descr="compass2"/>
          <p:cNvPicPr/>
          <p:nvPr/>
        </p:nvPicPr>
        <p:blipFill>
          <a:blip r:embed="rId2"/>
          <a:stretch/>
        </p:blipFill>
        <p:spPr>
          <a:xfrm rot="17705400">
            <a:off x="3806640" y="1720440"/>
            <a:ext cx="2330640" cy="16732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1"/>
          <p:cNvSpPr/>
          <p:nvPr/>
        </p:nvSpPr>
        <p:spPr>
          <a:xfrm>
            <a:off x="820800" y="1197000"/>
            <a:ext cx="69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http://teachers.henrico.k12.va.us/math/igo/movs/PerpOnLine.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2"/>
          <p:cNvSpPr/>
          <p:nvPr/>
        </p:nvSpPr>
        <p:spPr>
          <a:xfrm>
            <a:off x="5181480" y="5486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Continued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: Co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DF01-8BF1-4CAF-A285-E23E6359B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 of  a perpendicular from a point on the line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tinu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66" name="Object 23"/>
          <p:cNvGraphicFramePr/>
          <p:nvPr/>
        </p:nvGraphicFramePr>
        <p:xfrm>
          <a:off x="1752480" y="5181480"/>
          <a:ext cx="45720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181480"/>
                    <a:ext cx="457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3"/>
          <p:cNvSpPr/>
          <p:nvPr/>
        </p:nvSpPr>
        <p:spPr>
          <a:xfrm>
            <a:off x="457200" y="1895400"/>
            <a:ext cx="3886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Using same compass setting as in Step 3, place the compass at pt. B and draw an arc intersecting the previously drawn. Label the pt. of intersection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a straightedge to draw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4572000" y="1828800"/>
            <a:ext cx="0" cy="441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"/>
          <p:cNvSpPr/>
          <p:nvPr/>
        </p:nvSpPr>
        <p:spPr>
          <a:xfrm>
            <a:off x="4876920" y="419112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6"/>
          <p:cNvSpPr/>
          <p:nvPr/>
        </p:nvSpPr>
        <p:spPr>
          <a:xfrm>
            <a:off x="5334120" y="411480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8077320" y="411480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48769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8381880" y="4343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6629400" y="411480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64771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4648320" y="4191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rc 13"/>
          <p:cNvSpPr/>
          <p:nvPr/>
        </p:nvSpPr>
        <p:spPr>
          <a:xfrm rot="2080800">
            <a:off x="7467120" y="380952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rc 14"/>
          <p:cNvSpPr/>
          <p:nvPr/>
        </p:nvSpPr>
        <p:spPr>
          <a:xfrm rot="13727400">
            <a:off x="5181120" y="373356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rc 16"/>
          <p:cNvSpPr/>
          <p:nvPr/>
        </p:nvSpPr>
        <p:spPr>
          <a:xfrm>
            <a:off x="6095880" y="167652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rc 18"/>
          <p:cNvSpPr/>
          <p:nvPr/>
        </p:nvSpPr>
        <p:spPr>
          <a:xfrm rot="16438200">
            <a:off x="6324120" y="175212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6705720" y="144792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6095880" y="1828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6629400" y="1828800"/>
            <a:ext cx="152280" cy="1522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26"/>
          <p:cNvGraphicFramePr/>
          <p:nvPr/>
        </p:nvGraphicFramePr>
        <p:xfrm>
          <a:off x="1676520" y="5734080"/>
          <a:ext cx="26287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5734080"/>
                    <a:ext cx="26287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7" name="Picture 29" descr="compass2b"/>
          <p:cNvPicPr/>
          <p:nvPr/>
        </p:nvPicPr>
        <p:blipFill>
          <a:blip r:embed="rId5"/>
          <a:stretch/>
        </p:blipFill>
        <p:spPr>
          <a:xfrm rot="19732800">
            <a:off x="7467120" y="1523520"/>
            <a:ext cx="1109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13:44:29Z</dcterms:created>
  <dc:creator>HCPS</dc:creator>
  <dc:description/>
  <dc:language>en-US</dc:language>
  <cp:lastModifiedBy>Cynthia H. Morgan</cp:lastModifiedBy>
  <cp:lastPrinted>2013-04-30T20:24:32Z</cp:lastPrinted>
  <dcterms:modified xsi:type="dcterms:W3CDTF">2013-04-30T20:59:22Z</dcterms:modified>
  <cp:revision>114</cp:revision>
  <dc:subject/>
  <dc:title>No Slide Title</dc:title>
</cp:coreProperties>
</file>